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CC6-5005-477F-A63A-58AE8FAB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51B-2A2C-4DFF-8CDB-75D7ED2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F52-0C9A-4399-ACB1-F02EC8EF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ADC-92B3-46A2-A0AB-2B28D378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EE4D-CB3F-4E7A-B31E-0C4A9B7C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AE90-E9E7-407C-B4CC-57BC2E27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512E-2606-4B3C-BCCF-3C0F0EF7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8046-D871-4D5D-B0D8-0EA48426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01ED-F331-43F2-89A5-9AADA87B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57BC-41EC-4B6B-90EE-9CBDCF03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2708-B6D6-4B02-85BC-D851EBDE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EAD-9C3B-419C-8CFF-A65D8DD8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DD5C-EB19-4D79-9394-DBD169C8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8C35-36CD-403E-BC07-C8189340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AE53-AACD-496D-B8B5-4BA5EDC8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652E-8A93-44FA-824B-7F6EAB89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92F2-1DD0-4E6C-872F-45828FCC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B91-B3AC-4122-9917-C6253A71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C17-D0F1-4103-9160-82C95C2D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812-7BAA-4447-A679-0225DACB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B10-DF5E-4908-B63E-F1F84EAB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A1A-4315-40BA-A45B-9EF155DE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8A5-E26A-4CA7-A8B0-2E4EF705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005-5893-4FA0-BB1C-A53FA73F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E63D-5C73-466D-9BDA-AB928B064F2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5D8-EB4F-4FBF-874B-2FABA1FD77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kesybelia.ocps.k12.fl.us/images/Excited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Subject and Predicates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Project LA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ci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86000"/>
            <a:ext cx="2182680" cy="251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464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Every complete sentence contains two parts: a </a:t>
            </a: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subject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and a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who or what the sentence is about, while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lls what the subject is or d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at"/>
          <p:cNvPicPr/>
          <p:nvPr/>
        </p:nvPicPr>
        <p:blipFill>
          <a:blip r:embed="rId1"/>
          <a:stretch/>
        </p:blipFill>
        <p:spPr>
          <a:xfrm>
            <a:off x="6400800" y="4419720"/>
            <a:ext cx="2133720" cy="2066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Judy and her dog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2" name="Picture 4" descr="beach1"/>
          <p:cNvPicPr/>
          <p:nvPr/>
        </p:nvPicPr>
        <p:blipFill>
          <a:blip r:embed="rId1"/>
          <a:stretch/>
        </p:blipFill>
        <p:spPr>
          <a:xfrm>
            <a:off x="1371600" y="2362320"/>
            <a:ext cx="6781680" cy="466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ogrun"/>
          <p:cNvPicPr/>
          <p:nvPr/>
        </p:nvPicPr>
        <p:blipFill>
          <a:blip r:embed="rId2"/>
          <a:stretch/>
        </p:blipFill>
        <p:spPr>
          <a:xfrm>
            <a:off x="2362320" y="2133720"/>
            <a:ext cx="2462040" cy="447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ogging"/>
          <p:cNvPicPr/>
          <p:nvPr/>
        </p:nvPicPr>
        <p:blipFill>
          <a:blip r:embed="rId3"/>
          <a:stretch/>
        </p:blipFill>
        <p:spPr>
          <a:xfrm>
            <a:off x="5638680" y="36576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dy and her dog run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ff"/>
                </a:solidFill>
                <a:uFillTx/>
                <a:latin typeface="Arial"/>
              </a:rPr>
              <a:t>Judy and her dog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is the subject and </a:t>
            </a:r>
            <a:r>
              <a:rPr b="1" lang="en-US" sz="4400" spc="-1" strike="noStrike" u="sng">
                <a:solidFill>
                  <a:srgbClr val="cc0066"/>
                </a:solidFill>
                <a:uFillTx/>
                <a:latin typeface="Arial"/>
              </a:rPr>
              <a:t>run on the beach every morning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predic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ogging"/>
          <p:cNvPicPr/>
          <p:nvPr/>
        </p:nvPicPr>
        <p:blipFill>
          <a:blip r:embed="rId1"/>
          <a:stretch/>
        </p:blipFill>
        <p:spPr>
          <a:xfrm>
            <a:off x="7162920" y="5029200"/>
            <a:ext cx="118584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ogrun"/>
          <p:cNvPicPr/>
          <p:nvPr/>
        </p:nvPicPr>
        <p:blipFill>
          <a:blip r:embed="rId2"/>
          <a:stretch/>
        </p:blipFill>
        <p:spPr>
          <a:xfrm>
            <a:off x="5638680" y="4724280"/>
            <a:ext cx="1462320" cy="180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Let’s try one: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spilled popcorn on the fl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the subject and 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spilled popcorn on the flo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the predic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38080" y="5029200"/>
            <a:ext cx="769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popcorn1"/>
          <p:cNvPicPr/>
          <p:nvPr/>
        </p:nvPicPr>
        <p:blipFill>
          <a:blip r:embed="rId1"/>
          <a:stretch/>
        </p:blipFill>
        <p:spPr>
          <a:xfrm>
            <a:off x="7391520" y="304920"/>
            <a:ext cx="1523880" cy="16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boygirlyeah"/>
          <p:cNvPicPr/>
          <p:nvPr/>
        </p:nvPicPr>
        <p:blipFill>
          <a:blip r:embed="rId2"/>
          <a:stretch/>
        </p:blipFill>
        <p:spPr>
          <a:xfrm>
            <a:off x="4724280" y="838080"/>
            <a:ext cx="2857680" cy="111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tudents carried 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My little bro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roke his f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His Uncle Bo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ked for dire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Those stud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arried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Our babysit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rived 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9100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ttle brother broke his f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students carried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9100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broke his fing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Uncle Bob 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asked for direc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students 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carried boo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babysitter 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arrived 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3:24:38Z</dcterms:created>
  <dc:creator>Jefferson County Schools</dc:creator>
  <dc:description/>
  <dc:language>en-US</dc:language>
  <cp:lastModifiedBy>Laura McDow</cp:lastModifiedBy>
  <dcterms:modified xsi:type="dcterms:W3CDTF">2010-08-26T00:24:53Z</dcterms:modified>
  <cp:revision>14</cp:revision>
  <dc:subject/>
  <dc:title>Subjects &amp; Predicates</dc:title>
</cp:coreProperties>
</file>